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E9E-29BE-4FA6-9962-1311B45F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302-0BD4-4FD0-8526-7AE10D50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1416B-ECC6-4DFC-8E89-2D3D73C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4C71C-CFA5-43EA-B285-48008C79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8932-BB7C-4F95-AE63-40E47C46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16862-2751-44F9-AED0-BAEEB16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A2AEC-68F2-4DC6-A49C-5B83F5B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0E485-D45F-4A34-9DB8-CD00DF0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E8342-84FA-417B-B6D1-C4FC4AC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F344-1112-44F9-AFBF-63ACA494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04347-EB8A-42E7-9F00-9786D07D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690B-6DC4-4CD2-B00F-A9B89AB4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854-9254-4830-9C64-88E9BD5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CAE1C-0EA6-4543-8EA8-28C094E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0A752-7001-4FA0-9670-6135150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32376-940E-421E-940A-61FEE5A5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715F-89E6-4720-8803-6FE5D16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A91D6-2332-4CB9-B386-2BEFEEA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F156C-5715-4EEE-9CAB-00502D0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FA1D0-C93F-42D4-AD37-8342070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B5DCE-83F0-48B6-A8F6-66BD5AA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9604F-12E3-49BF-8E3A-8FBDC58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A27CA-3182-45EA-A05B-064C63DF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BDF-22EF-4D05-99B5-64D3AB54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984D1-33E7-46EC-B5D0-A0FE5DFA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97498-DD21-45E5-BD76-1096F04B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6BD03-D71D-4142-A57C-821E502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862E3-8F66-46CF-A7AC-7DF5368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7C2D0-EB4B-4453-AFFE-27CFDEF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FC2CC-D58C-43F6-AB05-3B23CD7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C2D5B-13A8-45EA-9CD6-D8D1CD8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39255-3F07-42D5-BDB5-8F9F7ED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F855E-ACE3-4C92-ADB5-2598FD1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4F331-89C4-4385-936B-9C42299D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3BB-E6D5-4402-8055-94000DFE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B05F0-2068-4D4C-A6B8-8A8C2E0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89164-0555-426F-A7C0-2F04CA5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3464-CA49-4554-9A67-AB2F2891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CC58D-9D0E-42D8-A1B4-6105CF06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568C5-1AED-4B72-B5AC-B192A9A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8A5F7-6B9C-4393-84C3-340C57D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F982-72CB-428E-AB91-26FF4DB8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17672-E090-4D5A-BCD8-EB88643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F20B6-C83D-4A69-A62E-EA785C14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0CD21-92AF-411B-8583-B46AF78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C86-66D8-49F7-892A-D64AF6E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5C8AF-4C84-4804-A280-6AE7AE5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768B0-7476-4D2B-93C0-CDC082C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EDD8C-BE16-4C0C-B1B1-08F5CD1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3C187-D4F9-472C-9A21-EA204258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246C7-B4E5-4F10-A625-0ACEE356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7FC84-34E0-4715-8010-4B1950D1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01C8B-2075-4B96-99F8-BE0B27B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7A8D0-B6B2-4300-B7BC-CCEAE949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2D99E-2D6B-4FD4-A4FD-8FAF37B8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61701-3248-4543-9703-C932400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89E-0DB9-49E5-8730-E0241982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8D22F-92C7-4B79-B682-C81E3114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69FE0-ABC0-4B1C-A58A-98520F2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1A93D-DB08-4575-B56E-7002D0C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2070D-EA31-4478-BAED-B0784528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B5DE4-D194-433F-9DE9-CA131B4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58DF1-CC1F-4205-87A4-2570BC24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82097-016F-4E33-9497-71D61ACC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838CD-7AD4-4080-8CA5-4F44F74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E0905-E9E2-4024-8D65-55DA1795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7EF8D-DD84-4AE5-981F-A66862DD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7F3-DF1B-413D-9FE7-B4519F7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A1EC5-6FE9-4D4D-B2E3-3D09331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E74DE-8BE3-496B-9F50-01908E6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B1779-D867-43CE-AF38-72F23D7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B7579-EC39-44D3-9052-7B1767CE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94E04-03E2-4464-AB02-90FA58A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D82DA-A260-476E-9BF7-9F5E936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E75CA-9C70-4AE7-BF1F-4A63C1EA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4EFB0-CE7E-429B-B1BD-694AD647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175C3-4CB2-41DC-BA0A-457B509E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7E38F-4E1E-4A7D-BC4E-32AC57C7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857C-F83A-4F79-8E13-D3A15EF4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7BA44-4C57-49F2-AA10-AD95672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AE81E-64A6-4313-A07C-B1AE433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7F9E5-882C-4DC0-8735-673AC08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3ECC0-FC22-4742-AF45-44C7482A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76080-8F0D-4214-843C-8FD188F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26538-86E9-49B1-8488-65FFA70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75969-EE7C-4A4F-A334-BCD89AF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2F97C-E152-489B-971B-72A12D6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43220-F999-4EF1-8581-F6669B3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118F1-E0FC-4982-8857-B02014E5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96F5-2C31-40BF-BA0A-E5C7FF1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50BEF-8755-4E3A-9555-C816C66C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25DCA-0FBE-4199-83D2-6D9DCDBA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1E096-111D-4030-AED6-E287BB40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43BBE-A94C-4394-830F-66FC2D31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3B839-F7A8-483F-9E00-28B98D98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ED83F-737F-481F-8D57-0B2B5881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49DDC-5D83-4A61-A900-81FB7AEA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31E81-EEB5-47B9-80BA-2703E90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A84C4-7C4F-457A-880F-A87C6DB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406E5-2272-4A0A-A900-C7DEAD5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9E6C-1D7A-47E1-8E0D-A38FA114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ABE03-9588-4EE8-88B5-2355DF19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7B612-51FD-4527-B5F9-431A783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00CBB-85E3-4A4C-8274-C72F69F1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E0C4D-3AD3-4E44-B576-CB466BC6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9179A-88BE-420D-9668-BD62A47D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C0B03-B418-4E2E-AEB7-14B90A4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ECEC1-25BC-4282-BD09-B50828E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BD281-EC91-45E1-85BC-2B7A226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FE3B7-142F-4DC0-B296-DC18CFF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3B352-BA9A-4B0B-8BD8-4263BDF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511-6B5A-4222-B800-DCFBDC9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E89-B51E-4E3F-B92B-B66E4FD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83C73-53B4-455F-909E-AAF3D02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47977-508C-4DF9-ACB2-484838A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DF76A-2F1B-42B4-880C-8CCBA5B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032C6-A22A-42BB-82C7-15A90DD0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41CDD-A9BE-4412-AC56-06810EB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FFCA6-DAFC-4012-B353-5117A9E3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83D16-2F26-4411-ACA0-C999E1EC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8FE6C-76B0-4DE5-8D6B-67C2523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ADF49-5067-4431-9955-8B6D7FB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6D9C6-A838-499A-B815-CB22B15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7CD-83AD-445B-AFC1-C2C01A7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BF85B-F06F-462A-9CFD-6735E30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40131-799C-40D8-AECC-FEB6397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9ACB7-BD54-4112-BEB3-002736E9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B7A96-021F-4879-824D-3A338BF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9DBA1-3A2A-4415-99D8-A2A72585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25736-1ABA-4593-8480-23973E55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F9052-080F-4E7A-958E-9C01F651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30214D-0810-45E9-B130-D1E4A025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229F4-FC89-4A71-8BB9-FD18492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D307B-208A-4C03-A1AC-54EF2F0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82C-A13C-412F-A5D6-9EAF4ED5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1456C-93F9-418D-B8FB-7889448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90AD3-9197-4803-9FCD-371B066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0A0B4-7409-4F7B-ACC4-2F353EB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3EEE6-3780-46FC-AA49-BCAC721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59ED4-BC8D-4DAF-8B6A-5851D38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38B9E-95B9-4258-BDCD-831E94F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5B18C-9DF9-4BB7-941F-FE345BA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A26715-93B4-4DC3-841F-F7BFBB39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CAE1A-7A10-4F95-85BB-2B85E6EA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02E8C-6B7E-48D0-9E8D-5D4BFE8F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32D-C39D-44FC-B5AE-E2AB2BF5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BCE12-8C46-4F3D-9491-925F1B7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26281-21B7-4F41-80E9-320A39F2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329D1-083B-4B12-85BF-9DCFC02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03D5D-0F7E-424A-BB2C-60EE0AC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B902D-A944-47F3-8041-008D25BE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A2980-6E72-4A2F-A8FA-DF510E9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E7D27-BE8E-4B87-A948-483411F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05680-E8B9-4A2F-9F82-E372345B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359CC-86AD-43C5-B45E-259FE34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D238A-FFEA-44CD-B22C-0E8730FF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0C22-588B-48DB-A6F8-DF6BA748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0AE1D-B60E-4477-952D-0FB2A430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40E65-935A-41FF-9FE1-F891949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48462-969E-4CF5-B0F8-044712C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9FF66-57CB-4807-B18F-BD22EAB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FA80B-4F77-49EA-A7C8-5C1F0266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5FE68-1015-498F-AF94-6632539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8EDC8-E09C-4D60-B2CD-7C7C98E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D1024-1571-4E2B-BA21-59F24F5D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9714F-38D5-410A-A775-B535DDA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D9158-67FE-4D70-B431-FF6B0E2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6286-BDE1-46F4-AD9C-A0C221DF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8AFF0-FF5E-435B-BD4A-A8E6B7F3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027E8-4362-458D-811C-DAA90A1D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FD0A2-09E9-4E3E-932C-E87B5C16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FBE311-BF58-40AC-A280-BBF735DB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C981F-6B95-436D-BCFB-54199C6E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F7514F-2173-481A-BBB0-C21A925F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D6CB3B-5B0F-457F-AE3A-84BFF295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6F83C-84A9-43DE-8CD1-D6FB706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19B9C-9296-42E4-B7CC-3FDA4E1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58E7B-82BC-4EA9-A5A8-361CBFF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C10B-D33A-4D29-8DAD-68A1E63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09454-2923-49B3-87B2-DAEF502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B23AF6-FCAD-4E4C-B24B-A79783C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3E649-1CC2-4C62-8B57-6E2554D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DF48EC-212B-4F55-937A-D9416487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20D789-AA51-4648-BB8F-07943D30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070158-8153-4B12-B546-2C972D64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C2987D-6E66-4398-A441-604D68A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AF6EF-2A57-4676-8FE0-87F7037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8ABBF-1DAD-4D5F-960C-3BB3C45A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F2C4C-8CC6-4E95-8E40-E5393BAC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1ED5-99B3-4D64-8C4E-81D4AC8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BE133-273A-49D2-861C-619986D5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18762-560C-4549-A5C0-078FBBA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956B23-006B-4504-A260-0AF3ACE7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FDEAB-9B02-4809-AD3D-33A7A93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F9560E-75E9-4160-B569-F449381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747860-6D30-4AAD-9E7F-3959CF36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801F31-A540-4E84-90BB-DACFD626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558BD3-3DA2-4549-91D9-27EED547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A3709-A5E5-41A6-94C2-3B23228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5EA9D-4783-48F7-87DE-84D6EBD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8A1C-2649-44A6-8B20-778013C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31944-2547-4F34-AA89-CAC3B5C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34736-3556-4931-A379-6814570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281D1E-1A7B-4F69-8E01-14D2681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E338EF-AE74-4704-ACCD-CCA56C1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66B0DF-A01E-47BB-94F0-E3F0EDE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6CFFB-34C2-47F1-8C23-3B473A1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4BEC63-39E3-4C4E-ACE5-4298471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47B6D-A6AE-46F6-A03C-2856EFC5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3D0177-638B-41EC-A10A-CCDD651E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D7878E-1B82-467D-BEC9-891A40D9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6C1A-65C8-4C7F-83CA-9D4D136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7C5E85-4F9F-45B7-925E-9889E12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E3457A-5070-45BF-B8A6-3F5E06D4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9FEB1F-1948-40E5-B4B1-4EA3CF97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96238C-64A8-40F2-AFFD-66F95B85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34BFEB-598B-4BE5-A20F-2A2497D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A6F9B5-8195-40AB-AC74-7E565FC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BE09B-BB66-499F-A6BA-95FBDC0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B6190D-EFD8-4BDB-9D9C-9633498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A848ED-F3B0-4038-A0B6-4B7DF70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0AE805-DB2B-4C44-96C3-D71EFC10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670-4525-43EB-981B-CF70A5A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BD8E-7726-4C68-9C87-4DA16A0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68AB4E-7AC2-423B-B7A1-0FF9D8AE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1D2E62-0495-4C18-8AF9-0CC2D71D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1F34EA-FA44-4BA1-A488-219D10F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887509-F664-4126-AD48-5FA5E66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274CEC-B63C-4879-8F91-7891E70B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92430C-474D-4620-B48C-36C1F17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BEB77D-974C-4C21-A305-5E14FDE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14DB0-5983-47DE-BB10-19986CC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922D58-538E-4C98-BF8B-F105F5F9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565BB5-021D-4823-8FDE-A8982DE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49ED-1BFD-4FD5-87B2-AAD4B9D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844EA2-1EC1-4A5D-B12D-CD936465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B28AE-C229-4882-91AA-A4CB7E0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A391EB-795E-4446-931E-BD8D0BB0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84F567-894F-4CD4-B5FA-F1F6678B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8C30FC-0D2E-4A99-B7F8-162BFAC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4448F6-09AB-4BC3-8588-C55A140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90A91-A85A-4189-9795-F5CD2E44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58DB25-563C-41B5-A53A-F5FABF48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D4F5F6-D87A-4537-A9B9-7A8C4E35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FE28F6-1D47-43DF-B7AB-5DAFB63F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2042-A375-4354-8FB9-9D8B106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105C33-9488-418D-AF0C-50F6B1E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375068-46E0-4D02-9191-9FDCDD1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81522E-19E1-4576-AA79-0D46D04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8EB9DA-6BA8-425A-A193-45D5B2B9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354A35-69B5-4E64-83BB-6148A458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3C477E-2D6B-4E4A-8517-C7281B9B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4FE910-3EAA-4A5E-A2B6-A408B87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4F6765-7CCC-4766-8F07-277C73F6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118E1B-5A58-430F-AEE7-2ED12B4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8974B7-FE9E-4029-BBE9-1DBB520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E977-A9C4-43DC-BD7C-170E1A4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D3A5DD-D63D-4FEF-A133-145D73D7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D1F556-A821-4766-8053-4E30067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90DBB3-B257-464B-A8C5-98A2CA0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BDCCC-A401-411E-B1F2-F201E31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E69041-732B-44B4-BA39-3E2410D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8D320C-E922-4181-834F-D2959B9B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EBB2D9-2D60-49C1-91FF-6A8CA529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0A5103-F7D0-4922-9BAC-BA0C23F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A51EB6-A080-465D-9F31-A07E2DD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DEBAF3-29BC-4E3A-93A5-C8280CF3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44E4-F5AF-4036-BE56-F8C2D58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3A8A7F-69BC-4CC0-A2EC-0CB367C6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0FA312-AAB9-4D2D-A990-942BC5B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0629EE-7D6C-458D-B362-5F014FE5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4493C6-13E0-4ED3-8221-B54D758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D143C1-26BC-497D-A376-91C90C37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991AC9-CF38-46B3-B3BA-2397A5F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C65B58-7AD0-429E-AD07-F645DD4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CEF531-0D7A-4850-894F-C849734A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61176-F535-4474-881A-ED1EE628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16EBB1-E6AE-4B96-91EB-9FB1CEBA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93BA-2DFD-4CA5-B326-69F1D364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4531DE-7766-46E5-BD53-6F68DC2A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E0D3E7-A943-4FD8-B1E8-13CF523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2F7493-73FB-4728-88E8-E31C78E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D9F864-08A4-4B4D-A81D-FBC02AC9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D87F14-5A89-4FE3-B121-0B0ABEE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CC29DE-F98A-4228-80F1-252C61E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05E166-5F2A-474E-8BBD-5ECB2D3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FAEAC-ABF8-4845-8EEC-E44AD09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124642-30FB-4F34-8930-9B5B47FD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391539-FCF1-4425-A693-56084886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B257-F7D0-4F62-9996-7D5A6D2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AE5ECB-BBF4-4CB2-A0E7-EC285E6C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2DB34A-B0DD-4505-8B4A-48512B84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F7CC70-32C6-4CB1-9CBD-B8A5BC1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C9ECD6-7481-4C8E-9003-B9DCC721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6D2B44-F874-4C30-9B5C-DAD7498B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DCC80D-2C67-4C7D-B413-53D6DA9E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14A54F-E602-414D-8A40-9475633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E60CD2-A113-4D0C-9DB2-2E56590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3655AC-B25F-4797-9510-1DAC658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C6E84D-8443-49F9-BB61-5A2A910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5843-D8F2-410F-A2A3-86241589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5F08C2-7AA1-4EF4-961D-374A6D9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EAD3D8-C0D3-4DC6-A09A-F9BEF170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1A8713-9096-4851-A607-48CF119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38D3D2-94F9-4502-A9B4-C03C124E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9C7AFA-8C02-49D2-8D42-E156ED75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130EE8-229B-4A91-990F-01A742D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91908C-1F2D-44C1-BD00-FCAD5F2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C439F3-252A-4BC1-9590-883CA7B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D5C436-CD48-4AA3-9134-B6CAAE9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94EB4B-2C7D-44BB-AF0C-DED41EB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3ECB-B02E-40A4-A237-56F8E8D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3F8515-098A-4112-BC0B-CE5D517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99A9A-C80F-414E-9FDE-0BDB656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614880-37B0-406D-AEF6-A2E4C43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55ED59-2DBB-43B7-914A-7C89B750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9995E6-079D-483B-A4C8-8556A77F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39E179-D8DA-46EF-AA8F-4777FF90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E3EAEF-8A14-415F-A0CC-B157CB9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6D4F63-E435-45C8-8F7C-30C9B8A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B0F885-EEB4-48FA-BEBF-CEAA239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82F00A-620A-49FE-A68F-FCA2643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7B96-43D0-46E9-82E2-CCB21A73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D69548-AAF2-4AD1-8E5A-0E16768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E5E23F-1D89-49EF-AD96-7589526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3B6BBB-86A9-4027-B050-73C504B3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207633-8EE3-44B7-B3C5-5CFB6EA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B3F32F-B212-4530-B626-8B86E97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900BDE-5725-4DE9-9765-68C8B82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7486B9-3A93-49CC-B1EA-CAB96C01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836047-DBEC-43C7-A8E2-6C4C01CE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BE6A51-2057-4D32-88B0-5C4B4D2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7672B0-9516-4388-AA0E-8D48E0B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78C-704C-4A9F-B177-FAF99389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6F85-BCE9-4CE8-8F45-3B755B57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5E13AF-2D7C-44FF-AED4-58C6A2AA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AE135A-24FB-4898-A0AD-5C3F7F4A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AAF249-DF84-41FB-98FF-E1CFD2C6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567B92-841D-42D6-ABCB-AA80E2F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DBC7E0-519B-4470-8090-D468DC5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B89B03-0470-4CF9-A4D4-E78ADE4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9FF21C-449B-4904-A1AA-BF0C7C46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04CF32-6545-4D66-8FAD-B4DEB0D4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4A8980-B4CD-4EEB-BCC8-4FB60C1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363FD-D1BF-4BF3-840B-67229327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DC3A-D5B2-4F8F-B018-3AF36A0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6DA964-2C01-43B9-923B-F90A2C9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A66DBC-5071-439C-A6AE-C6BFEFC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E57E82-5510-463D-A9BC-A800920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FBC043-6FD0-413C-8296-5BC1999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4958BB-47BD-40E4-9092-961CBBC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DDCF30-BA21-4DA3-B683-3158BC6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B77DF1-85D3-400D-BCAF-0E5F7AA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F04BE6-612F-40A5-946A-1368E99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DB7501-3C56-4294-9E7F-20A6766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9BEBD8-6935-4F9F-A76C-D47E07C4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BA63-604C-45E4-8400-9A2E26B9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49D0E1-74EF-46CA-B821-83ACE30B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0767E8-0C43-4139-92DB-1243AA52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F10392-862D-452F-A270-FE54890D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669DD0-FBB0-4124-9464-9FAE439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E8AEF2-3AFD-4C9D-9F2A-5584885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C59F4A-4957-4732-A438-BFDBB995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23B3F4-0088-4BC4-AAB0-D56884CC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226048-D422-42E5-B428-E4EAB53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9B98AD-AF9C-4A49-B4CF-4FDF0EA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06BA2D-8653-4AD2-8B20-F279DB4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9293-25E3-475C-BD15-5A1B051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99B424-ABCA-4FD8-9271-CD047E0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DCB894-5F91-44BB-A462-95AEAED4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A2CA15-A329-4F45-9FE1-99FFCF42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D7463C-61CA-4C15-8074-5940BFA7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C9400D-3A89-484E-9404-D6DABC81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13E3EC-40FE-403E-8382-4324888C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B1B2F9-EA75-4D5F-95CE-817AE59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2684C3-F40E-4987-A069-D21E56D6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572D14-2B6C-458F-8473-31CEC92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66AFF3-A500-471E-BC5B-D5F6FF3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0EFAD-644D-473A-8E12-09DAB03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3A7B29-C4A7-4874-82DC-D9580F5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908CEF-2B20-466A-A13F-7A503449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B7E293-E14B-4345-898A-FF396BB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928975-4BE0-47F6-BFCF-B6D81187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FB3F76-38C3-4079-9C7C-6CA44610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73AD84-E734-4967-80DE-286472F5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A0E093-9E28-4F7B-A479-355055B8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D6837A-B2AC-48D4-8257-5D178A6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593531-26D2-4500-B5FC-8E7715C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552DE0-4EA7-4EBC-B491-8A9C0230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1D52-C5DA-42FF-A83A-B1FD9E4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18482A-524A-479C-81CE-465C7A5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9A56AD-86CF-4C48-AF20-DC9DEE84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81C97E-339C-4CD5-BED4-4C0AD54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13F7CF-121E-4DFA-9329-382A981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FF2753-736A-4180-88DE-8A1DD798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170FC7-8A5A-43DF-8B8C-EE67A74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136FA6-3720-44F6-B53D-CCEFDFAA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49F3-47D5-41E1-A327-9DF34A03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3CB0F-47D0-493A-8E8F-3731F2E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01DD-79C6-4CC7-8E1F-28595C26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F750-9284-4BBC-B887-CB319641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07E-0AEE-40CB-98D9-4A18E9B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D4BB-7420-4B3A-B596-0571BC7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3794-B761-428F-A305-FCA605B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4104-8A8C-4875-BFFE-CCB3317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7CD4-49D3-49D6-9648-2DABB285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96D1-B9D0-49BC-BC23-DCABF9B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372B-0E1A-4829-BDE2-4EE2DF4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670E-4DB1-4C01-B8ED-616DEEB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85372-0B12-4B85-8C9A-C98EC3AB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D2FD-CB25-4F78-9001-AC60C02C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581A-A0E8-4D01-B3E1-320E4D18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598-AA76-4C59-90B9-6B5EC370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33EB-4CFD-4BAC-BC40-B8C164CC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0F5C-6BBA-4745-B427-6B744762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B7EF-E466-4326-AE00-034F72E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8192-D873-4743-A195-9D488DD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3F5A1-86E4-4253-AAE8-855DA8CD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C665A-DD6E-4B9F-BBDE-2AF3E289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63D5-DD60-4F41-B856-C9A81690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2097-F932-4E94-B5B1-8C8741A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93CE-DD58-45DE-BE22-BFF7EA6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2BD6-CE4B-401B-ADEF-D319156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9EC-967A-4EEC-B0D0-6B17EE2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9B04-6870-4F33-8025-78D9219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ACBD-0565-4597-A868-7B1D8AC4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43DB-AFCC-4BE0-976C-C4307240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5D8F-68E8-4DD2-8736-8D0AC168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8BAC-390D-4246-810B-EEB6C69D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CEA6B-F724-4506-A56A-9026BB5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4465-2008-4689-8670-464AC25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346E-CD7F-432F-A752-6A162B6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00EA5-83D9-44CA-BFAB-162500FA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935C5-09AD-46FD-B7AF-1E65AAA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E7D-B6A0-428F-8D19-5404AF3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651A-2F79-4062-A074-47A7157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2A89-E593-45F0-B074-0BAFCED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41BE-02FF-4AA1-A6A5-EBEBE20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4A51D-0ACF-422A-82C9-4914CA28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6E3F-F776-47F9-BDB4-5E65209C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1B7F-46ED-4302-8668-44346CDA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FE27-DDC5-4145-AFFE-27C2193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5BC8-4075-452D-AB29-D4A8B86B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E35E9-63C1-4F5E-8761-34EA924D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8BEBE-C642-4905-9E5A-812A070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303-B24B-4A4A-829F-734557E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75ACC-0643-4A29-A15F-9A9A764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CE81-4243-4915-B7A4-78FD470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CB37C-1776-404B-90A8-006C639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BFE6-67D2-402D-BB8C-45C10FB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25724-B3D2-4FE8-8213-B8F250C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824F-9870-424D-8A5A-383A3D5B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65E51-797A-43C2-93B8-627B990D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F2B31-6EFF-4AED-AC1E-88D96616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C752-D888-4215-BED7-07EA0CE0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00782-0AB2-46AC-8A93-839D10D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6A344-A78F-4096-8CE7-C0EFDC936A7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B434A-A703-490C-90C0-3F23A9BC5AD4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862F4-C231-4105-AB78-C00B03D5FCE1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3364C-43D3-4DEC-8DD5-EB3AC3EA13CD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8D86A-EC7E-4221-9782-2D329E0C093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67C2B-757B-429B-B3B1-74FE16C8C3C3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CA2AA-6E83-4823-8BDB-0F5C53272059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D642E-4D72-450D-8F7E-28A181509E5D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CC5E3-B0B8-4A6B-BE6F-8BB78A6D8F20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CE974-3465-4F0F-84FF-98422B143C0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2FC28-DDF2-44BD-ADF5-F8B67CD8C3A1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EF9BC-17BD-42FA-906A-1FB4C9A47EF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14FE3-720D-4710-A056-D8BC0E12223B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E501-23D5-4301-B55E-7CAFA45A9F19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1FA90-6668-4249-A1FC-20037544FC31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8BFB9-8F94-49BD-95BF-1C1B72DC11B0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977E2-218A-49C0-A680-0D4E47E99184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1A440-A245-4E44-A7E3-84C0B50FCC5F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3C0D6-637C-490C-8FD3-86935FFA79CB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B92B2-D3F6-4AF1-953E-DA8C3E39A347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DFA6A-4344-4DDD-B6EE-F16C22D55EEA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E7ABA-478C-4C89-B1ED-6ADC8CF241C7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79F7B-11C8-4176-93B7-CD36B8DB403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9087-7B83-4830-9609-0B3B91662BC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E9F3B-FABE-4D95-A30E-32806C5C016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BED4E-0D0A-4D9B-9E6A-B0C235BBC191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1D651-4B9B-4754-9BDF-F33DBF453CE3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A6222-5521-4DF8-AF3E-BAAC94BFFBCC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21C43-9A03-4490-87D6-6EBD80527C9D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4ABC6-7AD4-45AC-8E69-A99775136F07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923BE-09C7-4A20-8D7A-89BBC72E2115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357C5-8797-4647-993F-5B33488CD6EE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C4270-83BF-459E-82C0-0D370389162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51762-268A-49C7-A06D-B0F586CA859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47923-8C6B-4F6D-96BC-E552B2506018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9CC87-F24B-4B84-82D2-BF6F498C366B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94221-BB61-4400-BB99-ADAA0A926AAB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7C275-A1DE-46E3-92F7-EEAEA5D76089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EB%20REGION%20III%20%20%20%20%20%20MAYO%2028%20DEL%202013.xls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0" y="301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Subcoordinación de Gestión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18 CuadroTexto"/>
          <p:cNvSpPr/>
          <p:nvPr/>
        </p:nvSpPr>
        <p:spPr>
          <a:xfrm>
            <a:off x="425520" y="1174680"/>
            <a:ext cx="73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Supervisión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1 CuadroTexto"/>
          <p:cNvSpPr/>
          <p:nvPr/>
        </p:nvSpPr>
        <p:spPr>
          <a:xfrm>
            <a:off x="569880" y="2035080"/>
            <a:ext cx="795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1.- Nuevo marco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2.- Herramientas para garantizar normalidad mí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3.- Formación (capacitación oportuna y exhaus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4.- Certificación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1 CuadroTexto"/>
          <p:cNvSpPr/>
          <p:nvPr/>
        </p:nvSpPr>
        <p:spPr>
          <a:xfrm>
            <a:off x="506520" y="3814920"/>
            <a:ext cx="8086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ós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ear, llevar un seguimiento y evaluar las acciones de la escuela  para lograr el aprendizaje de los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2 CuadroTexto"/>
          <p:cNvSpPr/>
          <p:nvPr/>
        </p:nvSpPr>
        <p:spPr>
          <a:xfrm>
            <a:off x="1876320" y="5722920"/>
            <a:ext cx="47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es de trabajo entre consej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endizaje entre 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bajo colab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1 CuadroTexto"/>
          <p:cNvSpPr/>
          <p:nvPr/>
        </p:nvSpPr>
        <p:spPr>
          <a:xfrm>
            <a:off x="333720" y="12906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Reuniones con el equipo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1 Rectángulo"/>
          <p:cNvSpPr/>
          <p:nvPr/>
        </p:nvSpPr>
        <p:spPr>
          <a:xfrm>
            <a:off x="601560" y="1913040"/>
            <a:ext cx="76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15 , 17, 22, 23 y 25 de abri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2, 3, 13,14, 16, 22, 23 y 24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1 CuadroTexto"/>
          <p:cNvSpPr/>
          <p:nvPr/>
        </p:nvSpPr>
        <p:spPr>
          <a:xfrm>
            <a:off x="201600" y="5087880"/>
            <a:ext cx="89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Fortalecimiento del equipo de asesoría 500 + 300 - </a:t>
            </a:r>
            <a:r>
              <a:rPr b="1" i="1" lang="es-MX" sz="2000" spc="-1" strike="noStrike">
                <a:solidFill>
                  <a:srgbClr val="003300"/>
                </a:solidFill>
                <a:latin typeface="Arial"/>
              </a:rPr>
              <a:t>8 s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4 Rectángulo"/>
          <p:cNvSpPr/>
          <p:nvPr/>
        </p:nvSpPr>
        <p:spPr>
          <a:xfrm>
            <a:off x="606600" y="6019920"/>
            <a:ext cx="81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11, 12, 13, 17, 18, 19, 24 y 25 de ju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1 CuadroTexto"/>
          <p:cNvSpPr/>
          <p:nvPr/>
        </p:nvSpPr>
        <p:spPr>
          <a:xfrm>
            <a:off x="336240" y="32320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800000"/>
                </a:solidFill>
                <a:latin typeface="Arial"/>
              </a:rPr>
              <a:t>Reuniones con el grupo 40 + 30 - </a:t>
            </a:r>
            <a:r>
              <a:rPr b="1" i="1" lang="es-MX" sz="2000" spc="-1" strike="noStrike">
                <a:solidFill>
                  <a:srgbClr val="003300"/>
                </a:solidFill>
                <a:latin typeface="Arial"/>
              </a:rPr>
              <a:t>5 s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1 Rectángulo"/>
          <p:cNvSpPr/>
          <p:nvPr/>
        </p:nvSpPr>
        <p:spPr>
          <a:xfrm>
            <a:off x="725400" y="3948120"/>
            <a:ext cx="76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30 y 31 de mayo; 7, 10 y 13 de ju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1 CuadroTexto"/>
          <p:cNvSpPr/>
          <p:nvPr/>
        </p:nvSpPr>
        <p:spPr>
          <a:xfrm>
            <a:off x="925560" y="763560"/>
            <a:ext cx="61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CEB - Curs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nformación de un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1 Rectángulo"/>
          <p:cNvSpPr/>
          <p:nvPr/>
        </p:nvSpPr>
        <p:spPr>
          <a:xfrm>
            <a:off x="1136520" y="2341440"/>
            <a:ext cx="764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-  </a:t>
            </a: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30 integr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integrado por todas las asignaturas, grad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coordinado por un as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11 CuadroTexto"/>
          <p:cNvSpPr/>
          <p:nvPr/>
        </p:nvSpPr>
        <p:spPr>
          <a:xfrm>
            <a:off x="617400" y="5103720"/>
            <a:ext cx="7526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S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Serán las Secundarias como eje de los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4"/>
          <p:cNvSpPr/>
          <p:nvPr/>
        </p:nvSpPr>
        <p:spPr>
          <a:xfrm>
            <a:off x="723960" y="1231920"/>
            <a:ext cx="7715160" cy="1556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alibri"/>
                <a:ea typeface="Tahoma"/>
              </a:rPr>
              <a:t>Centros de Educación Básica – Consejo Técnico Esco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Calibri"/>
                <a:ea typeface="Tahoma"/>
              </a:rPr>
              <a:t>Ciclo escolar 2013 -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66840" y="138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4 CuadroTexto"/>
          <p:cNvSpPr/>
          <p:nvPr/>
        </p:nvSpPr>
        <p:spPr>
          <a:xfrm>
            <a:off x="557280" y="356220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Reunión de trabajo 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800000"/>
                </a:solidFill>
                <a:latin typeface="Arial"/>
              </a:rPr>
              <a:t>directores de la SC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4 CuadroTexto"/>
          <p:cNvSpPr/>
          <p:nvPr/>
        </p:nvSpPr>
        <p:spPr>
          <a:xfrm>
            <a:off x="6140160" y="59198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28 de may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1182240"/>
            <a:ext cx="7543800" cy="1055880"/>
          </a:xfrm>
          <a:prstGeom prst="rect">
            <a:avLst/>
          </a:prstGeom>
          <a:noFill/>
          <a:ln w="28440">
            <a:solidFill>
              <a:srgbClr val="98480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El</a:t>
            </a:r>
            <a:r>
              <a:rPr b="1" lang="es-MX" sz="2400" spc="-1" strike="noStrike">
                <a:solidFill>
                  <a:srgbClr val="800000"/>
                </a:solidFill>
                <a:latin typeface="Tahoma"/>
                <a:ea typeface="Tahoma"/>
              </a:rPr>
              <a:t> Centro de Educación Básica </a:t>
            </a: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que aprende</a:t>
            </a:r>
            <a:br>
              <a:rPr sz="2400"/>
            </a:br>
            <a:r>
              <a:rPr b="1" i="1" lang="es-MX" sz="2400" spc="-1" strike="noStrike">
                <a:solidFill>
                  <a:srgbClr val="003300"/>
                </a:solidFill>
                <a:latin typeface="Tahoma"/>
                <a:ea typeface="Tahoma"/>
              </a:rPr>
              <a:t>Consejo Técnico Escolar</a:t>
            </a:r>
            <a:br>
              <a:rPr sz="2400"/>
            </a:br>
            <a:r>
              <a:rPr b="1" lang="es-MX" sz="1600" spc="-1" strike="noStrike">
                <a:solidFill>
                  <a:srgbClr val="003300"/>
                </a:solidFill>
                <a:latin typeface="Tahoma"/>
                <a:ea typeface="Tahoma"/>
              </a:rPr>
              <a:t>Proyecto de trabajo (Lectura – Razonamiento matemátic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4" name="6 CuadroTexto"/>
          <p:cNvGrpSpPr/>
          <p:nvPr/>
        </p:nvGrpSpPr>
        <p:grpSpPr>
          <a:xfrm>
            <a:off x="1000080" y="3139920"/>
            <a:ext cx="2840040" cy="1114560"/>
            <a:chOff x="1000080" y="3139920"/>
            <a:chExt cx="2840040" cy="1114560"/>
          </a:xfrm>
        </p:grpSpPr>
        <p:pic>
          <p:nvPicPr>
            <p:cNvPr id="1565" name="6 CuadroTexto" descr=""/>
            <p:cNvPicPr/>
            <p:nvPr/>
          </p:nvPicPr>
          <p:blipFill>
            <a:blip r:embed="rId2"/>
            <a:stretch/>
          </p:blipFill>
          <p:spPr>
            <a:xfrm>
              <a:off x="1000080" y="313992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"/>
            <p:cNvSpPr/>
            <p:nvPr/>
          </p:nvSpPr>
          <p:spPr>
            <a:xfrm>
              <a:off x="1057320" y="3216240"/>
              <a:ext cx="265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rofesionalización directiva C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8 CuadroTexto"/>
          <p:cNvGrpSpPr/>
          <p:nvPr/>
        </p:nvGrpSpPr>
        <p:grpSpPr>
          <a:xfrm>
            <a:off x="5999040" y="3151080"/>
            <a:ext cx="2889360" cy="1122480"/>
            <a:chOff x="5999040" y="3151080"/>
            <a:chExt cx="2889360" cy="1122480"/>
          </a:xfrm>
        </p:grpSpPr>
        <p:pic>
          <p:nvPicPr>
            <p:cNvPr id="1568" name="8 CuadroTexto" descr=""/>
            <p:cNvPicPr/>
            <p:nvPr/>
          </p:nvPicPr>
          <p:blipFill>
            <a:blip r:embed="rId3"/>
            <a:stretch/>
          </p:blipFill>
          <p:spPr>
            <a:xfrm>
              <a:off x="5999040" y="3151080"/>
              <a:ext cx="2889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"/>
            <p:cNvSpPr/>
            <p:nvPr/>
          </p:nvSpPr>
          <p:spPr>
            <a:xfrm>
              <a:off x="6058080" y="3232080"/>
              <a:ext cx="275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rofesionalización docente y as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7 CuadroTexto"/>
          <p:cNvGrpSpPr/>
          <p:nvPr/>
        </p:nvGrpSpPr>
        <p:grpSpPr>
          <a:xfrm>
            <a:off x="4743360" y="4505400"/>
            <a:ext cx="2614680" cy="749160"/>
            <a:chOff x="4743360" y="4505400"/>
            <a:chExt cx="2614680" cy="749160"/>
          </a:xfrm>
        </p:grpSpPr>
        <p:pic>
          <p:nvPicPr>
            <p:cNvPr id="1571" name="7 CuadroTexto" descr=""/>
            <p:cNvPicPr/>
            <p:nvPr/>
          </p:nvPicPr>
          <p:blipFill>
            <a:blip r:embed="rId4"/>
            <a:stretch/>
          </p:blipFill>
          <p:spPr>
            <a:xfrm>
              <a:off x="4743360" y="4505400"/>
              <a:ext cx="2614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>
              <a:off x="4800600" y="4583160"/>
              <a:ext cx="250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Gestión escol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10 CuadroTexto"/>
          <p:cNvGrpSpPr/>
          <p:nvPr/>
        </p:nvGrpSpPr>
        <p:grpSpPr>
          <a:xfrm>
            <a:off x="1847880" y="4505400"/>
            <a:ext cx="2797200" cy="749160"/>
            <a:chOff x="1847880" y="4505400"/>
            <a:chExt cx="2797200" cy="749160"/>
          </a:xfrm>
        </p:grpSpPr>
        <p:pic>
          <p:nvPicPr>
            <p:cNvPr id="1574" name="10 CuadroTexto" descr=""/>
            <p:cNvPicPr/>
            <p:nvPr/>
          </p:nvPicPr>
          <p:blipFill>
            <a:blip r:embed="rId5"/>
            <a:stretch/>
          </p:blipFill>
          <p:spPr>
            <a:xfrm>
              <a:off x="1847880" y="4505400"/>
              <a:ext cx="2797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"/>
            <p:cNvSpPr/>
            <p:nvPr/>
          </p:nvSpPr>
          <p:spPr>
            <a:xfrm>
              <a:off x="1905120" y="4583160"/>
              <a:ext cx="26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MX" sz="2400" spc="-1" strike="noStrike">
                  <a:solidFill>
                    <a:srgbClr val="003300"/>
                  </a:solidFill>
                  <a:latin typeface="Calibri"/>
                </a:rPr>
                <a:t>Padres de fami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6" name="24 CuadroTexto" descr=""/>
          <p:cNvPicPr/>
          <p:nvPr/>
        </p:nvPicPr>
        <p:blipFill>
          <a:blip r:embed="rId6"/>
          <a:stretch/>
        </p:blipFill>
        <p:spPr>
          <a:xfrm>
            <a:off x="55440" y="2511360"/>
            <a:ext cx="730440" cy="3816360"/>
          </a:xfrm>
          <a:prstGeom prst="rect">
            <a:avLst/>
          </a:prstGeom>
          <a:ln w="0">
            <a:noFill/>
          </a:ln>
        </p:spPr>
      </p:pic>
      <p:sp>
        <p:nvSpPr>
          <p:cNvPr id="1577" name="26 CuadroTexto"/>
          <p:cNvSpPr/>
          <p:nvPr/>
        </p:nvSpPr>
        <p:spPr>
          <a:xfrm>
            <a:off x="838080" y="5838840"/>
            <a:ext cx="7715520" cy="886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Capacitación, asesoría, seguimiento,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Curso básic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8" name="45055 Conector recto de flecha"/>
          <p:cNvCxnSpPr/>
          <p:nvPr/>
        </p:nvCxnSpPr>
        <p:spPr>
          <a:xfrm flipV="1">
            <a:off x="3962160" y="2577240"/>
            <a:ext cx="549720" cy="74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79" name="45058 Conector recto de flecha"/>
          <p:cNvCxnSpPr/>
          <p:nvPr/>
        </p:nvCxnSpPr>
        <p:spPr>
          <a:xfrm>
            <a:off x="5320800" y="2577960"/>
            <a:ext cx="407160" cy="696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0" name="45063 Conector recto de flecha"/>
          <p:cNvCxnSpPr/>
          <p:nvPr/>
        </p:nvCxnSpPr>
        <p:spPr>
          <a:xfrm flipH="1">
            <a:off x="4236480" y="2577960"/>
            <a:ext cx="564120" cy="1161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1" name="45065 Conector recto de flecha"/>
          <p:cNvCxnSpPr/>
          <p:nvPr/>
        </p:nvCxnSpPr>
        <p:spPr>
          <a:xfrm>
            <a:off x="5010120" y="2577960"/>
            <a:ext cx="311760" cy="1145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2 CuadroTexto"/>
          <p:cNvSpPr/>
          <p:nvPr/>
        </p:nvSpPr>
        <p:spPr>
          <a:xfrm>
            <a:off x="1504800" y="2222640"/>
            <a:ext cx="635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Calibri"/>
              </a:rPr>
              <a:t>Profesionalización dir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Calibri"/>
              </a:rPr>
              <a:t>Consejo Técnic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iclo escolar 2013 -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3" name=""/>
          <p:cNvGraphicFramePr/>
          <p:nvPr/>
        </p:nvGraphicFramePr>
        <p:xfrm>
          <a:off x="1644480" y="2141640"/>
          <a:ext cx="635328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843200"/>
                <a:gridCol w="301608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de sept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4" name="2 CuadroTexto"/>
          <p:cNvSpPr/>
          <p:nvPr/>
        </p:nvSpPr>
        <p:spPr>
          <a:xfrm>
            <a:off x="1638360" y="1092240"/>
            <a:ext cx="63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uar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ones de Jalpan, Cadereyta y San Juan del 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712880" y="2155680"/>
          <a:ext cx="603900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747800"/>
                <a:gridCol w="279720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de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6" name="2 CuadroTexto"/>
          <p:cNvSpPr/>
          <p:nvPr/>
        </p:nvSpPr>
        <p:spPr>
          <a:xfrm>
            <a:off x="1712880" y="12016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uar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ón Querét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7" name=""/>
          <p:cNvGraphicFramePr/>
          <p:nvPr/>
        </p:nvGraphicFramePr>
        <p:xfrm>
          <a:off x="1644480" y="2141640"/>
          <a:ext cx="635328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843200"/>
                <a:gridCol w="301608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8" name="2 CuadroTexto"/>
          <p:cNvSpPr/>
          <p:nvPr/>
        </p:nvSpPr>
        <p:spPr>
          <a:xfrm>
            <a:off x="1638360" y="1092240"/>
            <a:ext cx="63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in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ones de Jalpan, Cadereyta y San Juan del 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9" name=""/>
          <p:cNvGraphicFramePr/>
          <p:nvPr/>
        </p:nvGraphicFramePr>
        <p:xfrm>
          <a:off x="1712880" y="2155680"/>
          <a:ext cx="6039000" cy="4378320"/>
        </p:xfrm>
        <a:graphic>
          <a:graphicData uri="http://schemas.openxmlformats.org/drawingml/2006/table">
            <a:tbl>
              <a:tblPr/>
              <a:tblGrid>
                <a:gridCol w="1494000"/>
                <a:gridCol w="1747800"/>
                <a:gridCol w="279720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Se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D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22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Fec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de 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de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0" name="2 CuadroTexto"/>
          <p:cNvSpPr/>
          <p:nvPr/>
        </p:nvSpPr>
        <p:spPr>
          <a:xfrm>
            <a:off x="1712880" y="12016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int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ión Querét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18 CuadroTexto"/>
          <p:cNvSpPr/>
          <p:nvPr/>
        </p:nvSpPr>
        <p:spPr>
          <a:xfrm>
            <a:off x="299880" y="10396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1 CuadroTexto"/>
          <p:cNvSpPr/>
          <p:nvPr/>
        </p:nvSpPr>
        <p:spPr>
          <a:xfrm>
            <a:off x="299880" y="1955880"/>
            <a:ext cx="884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onsej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) Comprensión del plan de estudios y conocimient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b) Actividades de aprendizaje para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En C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Evaluación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1 CuadroTexto"/>
          <p:cNvSpPr/>
          <p:nvPr/>
        </p:nvSpPr>
        <p:spPr>
          <a:xfrm>
            <a:off x="425520" y="593892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TE – Temática transversal 60%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nstruyendo la normalidad mínima esco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idades específicas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0:32Z</dcterms:created>
  <dc:creator>Arlen</dc:creator>
  <dc:description/>
  <dc:language>en-US</dc:language>
  <cp:lastModifiedBy>Administrador</cp:lastModifiedBy>
  <cp:lastPrinted>2013-05-21T20:09:05Z</cp:lastPrinted>
  <dcterms:modified xsi:type="dcterms:W3CDTF">2013-05-28T16:38:27Z</dcterms:modified>
  <cp:revision>330</cp:revision>
  <dc:subject/>
  <dc:title>Texto</dc:title>
</cp:coreProperties>
</file>